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13003213" cy="9756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9F0B-1841-4F53-BFFC-40B7A4C3ABA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EE45-703E-4E52-B921-5418A5A94E8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512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61264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3796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87512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61264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37960" y="380520"/>
            <a:ext cx="11053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512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61264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3796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7512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61264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37960" y="380520"/>
            <a:ext cx="11053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5" descr="ECEO_Pos_MonoTest2"/>
          <p:cNvPicPr/>
          <p:nvPr/>
        </p:nvPicPr>
        <p:blipFill>
          <a:blip r:embed="rId2"/>
          <a:stretch/>
        </p:blipFill>
        <p:spPr>
          <a:xfrm rot="21205200">
            <a:off x="10896120" y="8125920"/>
            <a:ext cx="1397160" cy="1397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1" marL="1057320" indent="-406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2" marL="1625760" indent="-325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3" marL="2276640" indent="-325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4" marL="2925720" indent="-325440">
              <a:spcBef>
                <a:spcPts val="825"/>
              </a:spcBef>
              <a:buClr>
                <a:srgbClr val="4b4b4b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5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6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3"/>
          <a:stretch/>
        </p:blipFill>
        <p:spPr>
          <a:xfrm>
            <a:off x="1128600" y="8915400"/>
            <a:ext cx="283392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4" descr="DETearly368_Sml"/>
          <p:cNvPicPr/>
          <p:nvPr/>
        </p:nvPicPr>
        <p:blipFill>
          <a:blip r:embed="rId2"/>
          <a:stretch/>
        </p:blipFill>
        <p:spPr>
          <a:xfrm>
            <a:off x="92790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5" descr="ECEO_Pos_MonoTest2"/>
          <p:cNvPicPr/>
          <p:nvPr/>
        </p:nvPicPr>
        <p:blipFill>
          <a:blip r:embed="rId3"/>
          <a:stretch/>
        </p:blipFill>
        <p:spPr>
          <a:xfrm rot="21180600">
            <a:off x="10896120" y="7620120"/>
            <a:ext cx="1397160" cy="1396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"/>
          <p:cNvPicPr/>
          <p:nvPr/>
        </p:nvPicPr>
        <p:blipFill>
          <a:blip r:embed="rId4"/>
          <a:stretch/>
        </p:blipFill>
        <p:spPr>
          <a:xfrm>
            <a:off x="1128600" y="8915400"/>
            <a:ext cx="2833920" cy="515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9" descr="DETearly722_Sml"/>
          <p:cNvPicPr/>
          <p:nvPr/>
        </p:nvPicPr>
        <p:blipFill>
          <a:blip r:embed="rId5"/>
          <a:stretch/>
        </p:blipFill>
        <p:spPr>
          <a:xfrm>
            <a:off x="44784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0" descr="DETearly805_Sml"/>
          <p:cNvPicPr/>
          <p:nvPr/>
        </p:nvPicPr>
        <p:blipFill>
          <a:blip r:embed="rId6"/>
          <a:stretch/>
        </p:blipFill>
        <p:spPr>
          <a:xfrm>
            <a:off x="6078600" y="7910640"/>
            <a:ext cx="1466640" cy="1465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8" descr="DETearly281_Sml"/>
          <p:cNvPicPr/>
          <p:nvPr/>
        </p:nvPicPr>
        <p:blipFill>
          <a:blip r:embed="rId7"/>
          <a:stretch/>
        </p:blipFill>
        <p:spPr>
          <a:xfrm>
            <a:off x="7678800" y="7910640"/>
            <a:ext cx="1465200" cy="146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1" marL="1057320" indent="-406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2" marL="1625760" indent="-325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3" marL="2276640" indent="-325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4" marL="2925720" indent="-325440">
              <a:spcBef>
                <a:spcPts val="825"/>
              </a:spcBef>
              <a:buClr>
                <a:srgbClr val="4b4b4b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5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6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eg%20Shared%20Reading%20Sec.%20Art.mov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Grade%201%202%20Shared%20Reading.wm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ducation.vic.gov.au/studentlearning/" TargetMode="External"/><Relationship Id="rId2" Type="http://schemas.openxmlformats.org/officeDocument/2006/relationships/hyperlink" Target="http://www.education.vic.gov.au/studentlearning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166760" y="915840"/>
            <a:ext cx="10667880" cy="2971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SHARED READ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-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le 1"/>
          <p:cNvSpPr/>
          <p:nvPr/>
        </p:nvSpPr>
        <p:spPr>
          <a:xfrm>
            <a:off x="1014480" y="380880"/>
            <a:ext cx="111776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SHARED READING </a:t>
            </a:r>
            <a:br>
              <a:rPr sz="4300"/>
            </a:b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assroom Indicators-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861840" y="1830240"/>
            <a:ext cx="11053800" cy="63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Clear instructional focus e.g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3254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- Text features and structures           - Problem-solving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3254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- Re-reading and self monitoring       - Finding evid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Demonstration of how the reading process work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Teaching for effective use of reading strateg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High level questioning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Where appropriate, teachers schedule opportunities to promote familiarity and memorisation through repeated reading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Daily instruction : 15- 2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014480" y="380880"/>
            <a:ext cx="1117764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SHARED READING </a:t>
            </a:r>
            <a:br>
              <a:rPr sz="4300"/>
            </a:b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assroom Indicators- Instruction (Continued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1014480" y="175428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Using enlarged text </a:t>
            </a: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students discover what is relevant to becoming a reader – challenging and deepening thinking, questioning, self monitoring, self correcting, sampling, confirm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Using enlarged text to enrich literacy experiences e.g. varying the way texts are presented to clearly emphasise enjoy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Using enlarged text to analyse different text types and styl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938160" y="992160"/>
            <a:ext cx="11087280" cy="7846920"/>
          </a:xfrm>
          <a:prstGeom prst="rect">
            <a:avLst/>
          </a:prstGeom>
          <a:ln w="0">
            <a:noFill/>
          </a:ln>
        </p:spPr>
      </p:pic>
      <p:sp>
        <p:nvSpPr>
          <p:cNvPr id="125" name="Right Arrow 2"/>
          <p:cNvSpPr/>
          <p:nvPr/>
        </p:nvSpPr>
        <p:spPr>
          <a:xfrm>
            <a:off x="1547640" y="3811680"/>
            <a:ext cx="2667240" cy="99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eft Arrow 3"/>
          <p:cNvSpPr/>
          <p:nvPr/>
        </p:nvSpPr>
        <p:spPr>
          <a:xfrm>
            <a:off x="8710560" y="3887640"/>
            <a:ext cx="289548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100" spc="-1" strike="noStrike">
                <a:solidFill>
                  <a:srgbClr val="008000"/>
                </a:solidFill>
                <a:latin typeface="Arial"/>
              </a:rPr>
              <a:t>How do we identify an instructional focus?</a:t>
            </a:r>
            <a:endParaRPr b="1" lang="en-US" sz="41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Prior observation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Assessment Task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NAPLAN Data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VEL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eaching for Reading Strategie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2"/>
          <p:cNvSpPr/>
          <p:nvPr/>
        </p:nvSpPr>
        <p:spPr>
          <a:xfrm>
            <a:off x="785880" y="2516040"/>
            <a:ext cx="1128060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t Level 4, students read,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interpret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respond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to a wide range of literary, everyday and media texts in print and in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multimoda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formats. They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analys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these texts and support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interpretation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evidenc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drawn from the text. They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describ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how texts are constructed for particular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purposes and audience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, and identify how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sociocultural values, attitudes and beliefs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 presented in texts.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They analyse information, imagery, characterisation, dialogue, point of view, plot and setting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They use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strategies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ch as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reading on, using contextual cues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rawing on knowledge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text organisation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en interpreting texts containing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unfamiliar ideas and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18306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VELS LEVEL 4 </a:t>
            </a:r>
            <a:br>
              <a:rPr sz="4300"/>
            </a:b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Reading Statement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26720" y="6269040"/>
            <a:ext cx="11052360" cy="19382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HARED READING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26720" y="4134960"/>
            <a:ext cx="11052360" cy="2133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4b4b4b"/>
                </a:solidFill>
                <a:latin typeface="Arial"/>
              </a:rPr>
              <a:t>Modelled Session- DUST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Observation 1- Year 8 Meg (Art)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37960" y="1218960"/>
            <a:ext cx="11053800" cy="2516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86000"/>
          </a:bodyPr>
          <a:p>
            <a:pPr marL="39312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instructional focus? 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393120" indent="-196560">
              <a:spcBef>
                <a:spcPts val="601"/>
              </a:spcBef>
              <a:tabLst>
                <a:tab algn="l" pos="0"/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39312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he classroom indicators evident?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39312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393120" indent="-196560">
              <a:spcBef>
                <a:spcPts val="601"/>
              </a:spcBef>
              <a:tabLst>
                <a:tab algn="l" pos="0"/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eg Shared Reading Sec. Art.mov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393120" indent="-196560">
              <a:spcBef>
                <a:spcPts val="825"/>
              </a:spcBef>
              <a:tabLst>
                <a:tab algn="l" pos="0"/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393120" indent="-196560">
              <a:spcBef>
                <a:spcPts val="825"/>
              </a:spcBef>
              <a:tabLst>
                <a:tab algn="l" pos="0"/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393120" indent="-196560">
              <a:spcBef>
                <a:spcPts val="825"/>
              </a:spcBef>
              <a:tabLst>
                <a:tab algn="l" pos="0"/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Observation 2- Grade 1/2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instructional focus? 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he classroom indicators evident?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rade 1 2 Shared Reading.wmv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4"/>
          <p:cNvSpPr/>
          <p:nvPr/>
        </p:nvSpPr>
        <p:spPr>
          <a:xfrm>
            <a:off x="2538360" y="3201840"/>
            <a:ext cx="8381880" cy="2517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Arial"/>
              </a:rPr>
              <a:t>How does it look different across year levels?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tle 1"/>
          <p:cNvSpPr/>
          <p:nvPr/>
        </p:nvSpPr>
        <p:spPr>
          <a:xfrm>
            <a:off x="1138320" y="380880"/>
            <a:ext cx="11053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SHARED READING </a:t>
            </a:r>
            <a:br>
              <a:rPr sz="4300"/>
            </a:b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assroom Indicators- Re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1090440" y="167796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Many short, enlarged print text selection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825"/>
              </a:spcBef>
              <a:buClr>
                <a:srgbClr val="4b4b4b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charts – short factual and narrative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825"/>
              </a:spcBef>
              <a:buClr>
                <a:srgbClr val="4b4b4b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text selections e g. science experiment, newspaper reports, magazines and current affairs websit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825"/>
              </a:spcBef>
              <a:buClr>
                <a:srgbClr val="4b4b4b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songs, chants, poems and rhym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825"/>
              </a:spcBef>
              <a:buClr>
                <a:srgbClr val="4b4b4b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big books – all text typ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Enlarged texts and charts well displayed in easily accessible storag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Interactive whiteboard, data projector &amp; overhead projecto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Effective Reading Instruction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Teachers must have: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Knowledge of reading curriculum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Knowledge about learners- What do they do and what do they know, at home and school?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Knowledge of instructional elements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High expectations of all students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0">
              <a:spcBef>
                <a:spcPts val="90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938160" y="992160"/>
            <a:ext cx="11087280" cy="7846920"/>
          </a:xfrm>
          <a:prstGeom prst="rect">
            <a:avLst/>
          </a:prstGeom>
          <a:ln w="0">
            <a:noFill/>
          </a:ln>
        </p:spPr>
      </p:pic>
      <p:sp>
        <p:nvSpPr>
          <p:cNvPr id="141" name="Right Arrow 2"/>
          <p:cNvSpPr/>
          <p:nvPr/>
        </p:nvSpPr>
        <p:spPr>
          <a:xfrm>
            <a:off x="2157480" y="5487840"/>
            <a:ext cx="2666880" cy="990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990720" y="2209680"/>
            <a:ext cx="1104876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Breakthrough         </a:t>
            </a:r>
            <a:r>
              <a:rPr b="0" lang="en-AU" sz="1700" spc="-1" strike="noStrike">
                <a:solidFill>
                  <a:srgbClr val="44422c"/>
                </a:solidFill>
                <a:latin typeface="Arial"/>
              </a:rPr>
              <a:t>Fullan Hill and Crevola</a:t>
            </a:r>
            <a:r>
              <a:rPr b="0" lang="en-AU" sz="1500" spc="-1" strike="noStrike">
                <a:solidFill>
                  <a:srgbClr val="44422c"/>
                </a:solidFill>
                <a:latin typeface="Arial"/>
              </a:rPr>
              <a:t>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Teaching for Comprehending  and Fluency     </a:t>
            </a:r>
            <a:r>
              <a:rPr b="0" lang="en-AU" sz="1700" spc="-1" strike="noStrike">
                <a:solidFill>
                  <a:srgbClr val="44422c"/>
                </a:solidFill>
                <a:latin typeface="Arial"/>
              </a:rPr>
              <a:t>Fountas and Pinn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Western Australia First Steps Second E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Effective Literacy Practice 1-4 and 5-8       </a:t>
            </a:r>
            <a:r>
              <a:rPr b="0" lang="en-AU" sz="1700" spc="-1" strike="noStrike">
                <a:solidFill>
                  <a:srgbClr val="44422c"/>
                </a:solidFill>
                <a:latin typeface="Arial"/>
              </a:rPr>
              <a:t>NZ Ministry of Edu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Victorian Essential Learning Standards      </a:t>
            </a:r>
            <a:r>
              <a:rPr b="0" lang="en-AU" sz="1700" spc="-1" strike="noStrike">
                <a:solidFill>
                  <a:srgbClr val="44422c"/>
                </a:solidFill>
                <a:latin typeface="Arial"/>
              </a:rPr>
              <a:t>DEEC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Becoming Literate   CL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3 level 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Pea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ducation.vic.gov.au/studentlearning</a:t>
            </a:r>
            <a:r>
              <a:rPr b="0" lang="en-A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r>
              <a:rPr b="0" lang="en-AU" sz="1600" spc="-1" strike="noStrike" u="sng">
                <a:solidFill>
                  <a:srgbClr val="009999"/>
                </a:solidFill>
                <a:uFillTx/>
                <a:latin typeface="Arial"/>
              </a:rPr>
              <a:t>teachingresources/english/literacy/default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Reference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Resources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014480" y="1754280"/>
            <a:ext cx="110487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Catching onto Comprehension- Pea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NAPLAN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AIM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PROBE tex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Skyrider Shared Reading 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Pea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Time for Kids website- http://www.timeforkids.com/TFK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37960" y="380880"/>
            <a:ext cx="11053800" cy="16020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Individual Student Reading Observation</a:t>
            </a:r>
            <a:br>
              <a:rPr sz="4300"/>
            </a:b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66400" y="2440080"/>
            <a:ext cx="11053800" cy="5410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799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4b4b4b"/>
                </a:solidFill>
                <a:latin typeface="Arial"/>
              </a:rPr>
              <a:t>View student reading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4b4b4b"/>
                </a:solidFill>
                <a:latin typeface="Arial"/>
              </a:rPr>
              <a:t>What do we know about this reader?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4b4b4b"/>
                </a:solidFill>
                <a:latin typeface="Arial"/>
              </a:rPr>
              <a:t>Where might the instruction go next?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Professional Learning team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799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4b4b4b"/>
                </a:solidFill>
                <a:latin typeface="Arial"/>
              </a:rPr>
              <a:t>Form  a team of 3-4(close proximity)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4b4b4b"/>
                </a:solidFill>
                <a:latin typeface="Arial"/>
              </a:rPr>
              <a:t>Share and build on your School Literacy Plan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Professional Learning Team (continued)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aking Stock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Reflect on your own literacy learn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Make PL plan to drive own personal learn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Reading Curriculum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7000"/>
          </a:bodyPr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e reading proces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omprehension strategie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Vocabulary: affected by world knowledge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luency: expression, phrasing, rate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Decod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Response to read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ext selection: just right texts for Independent Read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le 1"/>
          <p:cNvSpPr/>
          <p:nvPr/>
        </p:nvSpPr>
        <p:spPr>
          <a:xfrm>
            <a:off x="1138320" y="380880"/>
            <a:ext cx="11053800" cy="83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LITERACY ELEM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2"/>
          <p:cNvSpPr/>
          <p:nvPr/>
        </p:nvSpPr>
        <p:spPr>
          <a:xfrm>
            <a:off x="100080" y="1677960"/>
            <a:ext cx="54496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Read Alou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Shared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Guided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Independent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Up-Down Arrow 4"/>
          <p:cNvSpPr/>
          <p:nvPr/>
        </p:nvSpPr>
        <p:spPr>
          <a:xfrm>
            <a:off x="5281560" y="1373040"/>
            <a:ext cx="2743200" cy="5943600"/>
          </a:xfrm>
          <a:prstGeom prst="upDownArrow">
            <a:avLst>
              <a:gd name="adj1" fmla="val 50000"/>
              <a:gd name="adj2" fmla="val 50004"/>
            </a:avLst>
          </a:prstGeom>
          <a:solidFill>
            <a:srgbClr val="008000">
              <a:alpha val="8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AKING &amp; 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ontent Placeholder 3"/>
          <p:cNvSpPr/>
          <p:nvPr/>
        </p:nvSpPr>
        <p:spPr>
          <a:xfrm>
            <a:off x="7907400" y="1677960"/>
            <a:ext cx="5095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Write Alou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Shared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Guided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Independent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10466280" y="6097680"/>
            <a:ext cx="574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B794-FF1E-4773-BD09-99DB78B9F145}" type="slidenum">
              <a:rPr b="0" lang="en-A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861840" y="382680"/>
            <a:ext cx="1127772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GRADUAL RELEASE OF RESPONSIBILIT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9"/>
          <p:cNvSpPr/>
          <p:nvPr/>
        </p:nvSpPr>
        <p:spPr>
          <a:xfrm>
            <a:off x="2766960" y="2957400"/>
            <a:ext cx="1676520" cy="2362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DELL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demonstrates and explains the literacy focus being taught. This is achieved by thinking aloud the mental processes and modelling the reading, writing, speaking and list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2766960" y="5624640"/>
            <a:ext cx="1676520" cy="107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tudent participates by actively attending to the demonstr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4976640" y="2957400"/>
            <a:ext cx="1676520" cy="1800360"/>
          </a:xfrm>
          <a:prstGeom prst="rect">
            <a:avLst/>
          </a:prstGeom>
          <a:solidFill>
            <a:srgbClr val="008000">
              <a:alpha val="84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HAR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he teacher continues to demonstrate the literacy focus, encouraging students to contribute ideas and 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5"/>
          <p:cNvSpPr/>
          <p:nvPr/>
        </p:nvSpPr>
        <p:spPr>
          <a:xfrm>
            <a:off x="4976640" y="5243400"/>
            <a:ext cx="1676520" cy="1440000"/>
          </a:xfrm>
          <a:prstGeom prst="rect">
            <a:avLst/>
          </a:prstGeom>
          <a:solidFill>
            <a:srgbClr val="008000">
              <a:alpha val="84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tudents contribute ideas and begin to practise the use of the literacy focus in whole class situ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6"/>
          <p:cNvSpPr/>
          <p:nvPr/>
        </p:nvSpPr>
        <p:spPr>
          <a:xfrm>
            <a:off x="7262640" y="2957400"/>
            <a:ext cx="1676520" cy="1440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UID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provides scaffolds for students to use the literacy focus. Teacher provides feedba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7"/>
          <p:cNvSpPr/>
          <p:nvPr/>
        </p:nvSpPr>
        <p:spPr>
          <a:xfrm>
            <a:off x="7262640" y="4938840"/>
            <a:ext cx="1676520" cy="1800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udents work with help from the teacher and peers to practise the use of the literacy 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9"/>
          <p:cNvSpPr/>
          <p:nvPr/>
        </p:nvSpPr>
        <p:spPr>
          <a:xfrm>
            <a:off x="9548640" y="2957400"/>
            <a:ext cx="1676520" cy="1079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LY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offers support and encouragement when necess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0"/>
          <p:cNvSpPr/>
          <p:nvPr/>
        </p:nvSpPr>
        <p:spPr>
          <a:xfrm>
            <a:off x="9548640" y="4557600"/>
            <a:ext cx="1676520" cy="215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tudent works independently to apply the use of literacy 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3"/>
          <p:cNvSpPr/>
          <p:nvPr/>
        </p:nvSpPr>
        <p:spPr>
          <a:xfrm>
            <a:off x="1700280" y="2424240"/>
            <a:ext cx="86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 of the 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5"/>
          <p:cNvSpPr/>
          <p:nvPr/>
        </p:nvSpPr>
        <p:spPr>
          <a:xfrm>
            <a:off x="3147840" y="6843600"/>
            <a:ext cx="88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 of the stud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9"/>
          <p:cNvSpPr/>
          <p:nvPr/>
        </p:nvSpPr>
        <p:spPr>
          <a:xfrm>
            <a:off x="8151840" y="6824520"/>
            <a:ext cx="34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Arial"/>
              </a:rPr>
              <a:t>Pearson &amp; Gallag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3"/>
          <p:cNvSpPr/>
          <p:nvPr/>
        </p:nvSpPr>
        <p:spPr>
          <a:xfrm rot="16200000">
            <a:off x="267120" y="4698720"/>
            <a:ext cx="374508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DEGREE OF 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938160" y="992160"/>
            <a:ext cx="11087280" cy="78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PAIRED VERBAL FLUENCY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8000"/>
          </a:bodyPr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pairs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A  tells Person B everything s/he knows about the topic for about a minute, while number two listens carefully. 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minute is up, Person B tells Person A everything s/he knows about the topic without repeating any ideas for 45 seconds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be repeated for another two rounds, with a shorter amount of time allocated to each round(30 seconds and 15 seconds) 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Person B will briefly paraphrase the conversation with the rest of the group.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2538360" y="3201840"/>
            <a:ext cx="8381880" cy="1709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Arial"/>
              </a:rPr>
              <a:t>What is Shared Reading? 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Arial"/>
              </a:rPr>
              <a:t>What is its purpose?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le 4"/>
          <p:cNvSpPr/>
          <p:nvPr/>
        </p:nvSpPr>
        <p:spPr>
          <a:xfrm>
            <a:off x="1166760" y="458640"/>
            <a:ext cx="11053800" cy="83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SHARED READING                  </a:t>
            </a:r>
            <a:r>
              <a:rPr b="1" lang="en-US" sz="4300" spc="-1" strike="noStrike">
                <a:solidFill>
                  <a:srgbClr val="a6a6a6"/>
                </a:solidFill>
                <a:latin typeface="Arial"/>
              </a:rPr>
              <a:t>Description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5"/>
          <p:cNvSpPr/>
          <p:nvPr/>
        </p:nvSpPr>
        <p:spPr>
          <a:xfrm>
            <a:off x="1090440" y="175428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Shared Reading is whole class teaching i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supportive environment, using enlarged print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high quality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Teachers select text well suited to strateg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instru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Students and teachers share the task of reading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text which might otherwise prove too challeng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0:12:23Z</dcterms:created>
  <dc:creator>Cato Purnell</dc:creator>
  <dc:description/>
  <dc:language>en-US</dc:language>
  <cp:lastModifiedBy>Kylie Lipscombe</cp:lastModifiedBy>
  <dcterms:modified xsi:type="dcterms:W3CDTF">2009-08-05T11:05:26Z</dcterms:modified>
  <cp:revision>32</cp:revision>
  <dc:subject/>
  <dc:title>PowerPoint Presentation</dc:title>
</cp:coreProperties>
</file>